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8005-3C11-4254-9F3E-D804D6460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D8E9-A7AD-4F86-9A5D-8BF2C016C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CD13-8D0F-48D8-A11A-B9519FC07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9937-D7B5-4502-B6C5-18663C9F1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468A-CA47-46DD-8637-E75930514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5652-9D7C-48BA-9C9B-9BA53ECF3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8B31-6572-4E8D-AF64-7C948E42E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1EC1-F436-4649-89B1-475A79C74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4F2C-13CD-4EAD-8163-052F9A19E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13FB-EC6D-4B8F-A73D-4C02FA16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DBFA-076C-4A71-9BD0-4635117E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B509-0CEC-4884-B062-8150B0B3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46DF7-6695-44FC-B7FA-FE194EE291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pter 5 – India Vocabul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gan Perr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zo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Buddhist center of prayer and stud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6" descr="http://www.google.com/url?source=imglanding&amp;ct=img&amp;q=http://www.indiamike.com/files/images/80/34/21/three-backpackers-at-punakha-dzong.preview.jpg&amp;sa=X&amp;ei=GXbhTt7GKsKCtgegn6ToBA&amp;ved=0CAsQ8wc&amp;usg=AFQjCNHuMk8f5JC4QTKZEnO0ucLyVQXONg"/>
          <p:cNvPicPr/>
          <p:nvPr/>
        </p:nvPicPr>
        <p:blipFill>
          <a:blip r:embed="rId1"/>
          <a:stretch/>
        </p:blipFill>
        <p:spPr>
          <a:xfrm>
            <a:off x="1523880" y="1447920"/>
            <a:ext cx="5722920" cy="42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contin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arge landmass that is part of a continent but distinct from 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2905200" y="1514520"/>
            <a:ext cx="33336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so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easonal wind that blows for months at a time, affecting the clima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0" descr="http://www.google.com/url?source=imglanding&amp;ct=img&amp;q=http://www.indiamike.com/india/attachments/1226d1089869973-kolkata-and-varanasi-during-monsoon-flood1.jpg&amp;sa=X&amp;ei=1W_hToOfEsmCtgeL8vzCBA&amp;ved=0CAsQ8wc&amp;usg=AFQjCNHr_dIwry9LTsxeAeFJd6uufYFwfQ"/>
          <p:cNvPicPr/>
          <p:nvPr/>
        </p:nvPicPr>
        <p:blipFill>
          <a:blip r:embed="rId1"/>
          <a:stretch/>
        </p:blipFill>
        <p:spPr>
          <a:xfrm>
            <a:off x="1676520" y="1752480"/>
            <a:ext cx="5857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t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lant fiber used for making robe, burlap bags, etc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AutoShape 6"/>
          <p:cNvSpPr/>
          <p:nvPr/>
        </p:nvSpPr>
        <p:spPr>
          <a:xfrm>
            <a:off x="63360" y="-84780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8"/>
          <p:cNvSpPr/>
          <p:nvPr/>
        </p:nvSpPr>
        <p:spPr>
          <a:xfrm>
            <a:off x="63360" y="-84780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india-jute-cultivation-2009-9-29-9-12-21.jpg"/>
          <p:cNvPicPr/>
          <p:nvPr/>
        </p:nvPicPr>
        <p:blipFill>
          <a:blip r:embed="rId1"/>
          <a:stretch/>
        </p:blipFill>
        <p:spPr>
          <a:xfrm>
            <a:off x="1981080" y="1676520"/>
            <a:ext cx="5240520" cy="34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ttage Indus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home or village based industry where family members make their own goo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http://www.google.com/url?source=imglanding&amp;ct=img&amp;q=http://cf1.netmegs.com/memestream/bag-making.jpg&amp;sa=X&amp;ei=h3LhTvD5JYybtwe8kqXnAw&amp;ved=0CAwQ8wc&amp;usg=AFQjCNEmZ6qBXTOcXzx8slN170WfKBCH9A"/>
          <p:cNvPicPr/>
          <p:nvPr/>
        </p:nvPicPr>
        <p:blipFill>
          <a:blip r:embed="rId1"/>
          <a:stretch/>
        </p:blipFill>
        <p:spPr>
          <a:xfrm>
            <a:off x="1752480" y="1752480"/>
            <a:ext cx="548640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r social class that is based on your ancest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6" descr="http://www.google.com/url?source=imglanding&amp;ct=img&amp;q=http://nataliepeart.files.wordpress.com/2011/10/caste_system-oo4t9n.jpg&amp;sa=X&amp;ei=aHPhTqbmFYPqtgeZzqjnBA&amp;ved=0CAwQ8wc&amp;usg=AFQjCNHNJAJQbCmO8YV8DKNJ6CKZTnRjJg"/>
          <p:cNvPicPr/>
          <p:nvPr/>
        </p:nvPicPr>
        <p:blipFill>
          <a:blip r:embed="rId1"/>
          <a:stretch/>
        </p:blipFill>
        <p:spPr>
          <a:xfrm>
            <a:off x="2362320" y="1295280"/>
            <a:ext cx="426708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incarn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belief in the rebirth of a person’s soul in a new body after dea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6" descr="http://www.google.com/url?source=imglanding&amp;ct=img&amp;q=http://www.ifimages.com/photos/u1KdddDdsvNhplG5lHXcXDhFx2Y/author-519/Durga-Kali-India-Reincarnation.jpg&amp;sa=X&amp;ei=QnThTrDUAci5tgeA6OTpBA&amp;ved=0CAsQ8wc&amp;usg=AFQjCNFsDx5dv-jXZGbZegNBN51KHQikIA"/>
          <p:cNvPicPr/>
          <p:nvPr/>
        </p:nvPicPr>
        <p:blipFill>
          <a:blip r:embed="rId1"/>
          <a:stretch/>
        </p:blipFill>
        <p:spPr>
          <a:xfrm>
            <a:off x="2743200" y="1295280"/>
            <a:ext cx="350532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yclo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intense storm system with heavy rain and high wi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6" descr="http://www.google.com/url?source=imglanding&amp;ct=img&amp;q=http://eoimages.gsfc.nasa.gov/images/imagerecords/10000/10511/IndiaCyclone_trm2002316_lrg.jpg&amp;sa=X&amp;ei=zHThTrG4L86CtgfngJ2oBQ&amp;ved=0CAwQ8wc&amp;usg=AFQjCNEpTzdNo_p3SeRtmYWfuCs_F4r6ZQ"/>
          <p:cNvPicPr/>
          <p:nvPr/>
        </p:nvPicPr>
        <p:blipFill>
          <a:blip r:embed="rId1"/>
          <a:stretch/>
        </p:blipFill>
        <p:spPr>
          <a:xfrm>
            <a:off x="2209680" y="1447920"/>
            <a:ext cx="4465800" cy="42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stici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ful chemicals that kill crop-destroying insec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6" descr="http://www.google.com/url?source=imglanding&amp;ct=img&amp;q=http://cdn.wn.com/pd/b3/e4/6dd96c5c09d3bfb54ca0772edf58_grande.jpg&amp;sa=X&amp;ei=p3XhTvbjFcKhtwf-1fH1BA&amp;ved=0CAwQ8wc&amp;usg=AFQjCNFEGktYCZRZ6lJoSZy3kHCU278jLw"/>
          <p:cNvPicPr/>
          <p:nvPr/>
        </p:nvPicPr>
        <p:blipFill>
          <a:blip r:embed="rId1"/>
          <a:stretch/>
        </p:blipFill>
        <p:spPr>
          <a:xfrm>
            <a:off x="1295280" y="1523880"/>
            <a:ext cx="600876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8T15:45:15Z</dcterms:created>
  <dc:creator>poweruser</dc:creator>
  <dc:description/>
  <dc:language>en-US</dc:language>
  <cp:lastModifiedBy>BHISD</cp:lastModifiedBy>
  <dcterms:modified xsi:type="dcterms:W3CDTF">2011-12-09T15:44:58Z</dcterms:modified>
  <cp:revision>16</cp:revision>
  <dc:subject/>
  <dc:title>Chapter 5 – India Vocabulary</dc:title>
</cp:coreProperties>
</file>